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30B-FC9C-46D1-BB1F-61484598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D05-25EC-43C8-A665-02F1293E5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7106-DFB4-403C-8ACE-5105F8931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8A3-E665-4F3D-9ADA-AB6CCAE41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B9D-48C1-4805-A098-19ED3996D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EBD-5D8C-4D7A-BA1E-03DD8505E2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9E5-B5E4-4EBA-8AA2-75D1DB6E35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506-FC62-4635-9C18-62E903FFB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963-51DB-4DF9-A5CC-24716CDE7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E07-0FD5-4F29-A2BC-E786521B3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F111-86A5-4857-8184-E26451DACB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8DF4-C0DB-43CC-9512-DE8AA142A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2F4C-4EBF-40F7-A241-A7304EF88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69A6-28EC-4A6E-962A-D6613E66B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E055-D607-4329-BF34-008F686B7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69B0-EF09-4E76-9275-686526406C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644-F5E9-4531-A45F-2E62089B4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9FB-5CCF-4FC8-84BF-6103A8FD87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7239-4948-48BE-8EFB-92948F2B7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E6B-EA14-4029-A357-7300055A3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BCAD-8DD0-4D1F-9A27-A6966AADF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936C-6889-4C44-A4AD-4644B58C4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B70-07C9-4DDC-A0F0-487085A55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415-EED6-492A-8263-A7D0AF2EF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29B1-ED44-41D0-8D65-EABE2F8AF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590-94A0-4EA5-B7C4-863F0F327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C59-282E-4853-9EE3-315D9E427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DB9-9D81-4016-8188-D3D04B2E8F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2C47-ED38-434B-921F-5016DC243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E0-74AB-4A82-852D-2032C3B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B92-E691-4791-AA73-1603745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F0B-39F9-4EEB-B171-A1000188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40E-5C7A-4E08-AC46-5719B0BC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F7-3066-4BDD-A245-EAC25A78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30B-74E7-4970-8F3B-861A31D5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4DD-0EBD-46E7-955D-2196D12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017-3F89-46AE-AB76-927FF66C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B9B-52BC-4F17-90F2-C751CD9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B5C-29FE-437B-B8E7-4F5DCCB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6C2-9CA4-4363-BF82-CB5930D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29B-1553-4C2B-A190-B54C887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B12D-E233-43F1-9C7F-E3BD97B1A3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image" Target="../media/image1.gi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Berry Si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Polar B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Armadil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Milk Sn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Other Zoo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26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27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39520" y="380880"/>
            <a:ext cx="7718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two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nimals m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p most 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’s die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58640" y="533520"/>
            <a:ext cx="8436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adaptati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helps the pola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ar blend int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ir environme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91800" y="533520"/>
            <a:ext cx="7131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s ar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ept warm b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layer unde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ski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83040" y="1066680"/>
            <a:ext cx="858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averag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ife span of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rmadillo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57200" y="53352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6699"/>
                </a:solidFill>
                <a:latin typeface="Times New Roman"/>
              </a:rPr>
              <a:t>True or fals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e armadill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needs temperatur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around 67-70°F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1640" y="1219320"/>
            <a:ext cx="8094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what bab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e calle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0440" y="1523880"/>
            <a:ext cx="836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ar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ature at this ag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91440" y="533520"/>
            <a:ext cx="7227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allow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rmadill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o mov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ound at nigh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861480" y="1143000"/>
            <a:ext cx="768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nother nam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a milk sn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01960" y="990720"/>
            <a:ext cx="750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an live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ong in the wil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2120" y="1219320"/>
            <a:ext cx="761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a part of thi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nake famil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069200" y="914400"/>
            <a:ext cx="704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how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ills its pre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83040" y="533520"/>
            <a:ext cx="8463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dult Komod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ragons will feed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n this anima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bundant in PA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7560" y="914400"/>
            <a:ext cx="896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are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ison Dart Frog’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od sourc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765360" y="838080"/>
            <a:ext cx="750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third stag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f the Monarch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ife cycle is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18440" y="762120"/>
            <a:ext cx="9024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onarch butterfl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ay their egg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is pla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64280" y="838080"/>
            <a:ext cx="759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helter fo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Giant Panda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46840" y="838080"/>
            <a:ext cx="803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corn snake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ody temperatur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epends on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19320" y="1066680"/>
            <a:ext cx="6495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ge 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1447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food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 ea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280368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339360" y="1560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219320" y="1447920"/>
            <a:ext cx="7284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s weigh this much</a:t>
            </a: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ction Button: Custom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8"/>
          <p:cNvSpPr/>
          <p:nvPr/>
        </p:nvSpPr>
        <p:spPr>
          <a:xfrm>
            <a:off x="1626840" y="1116000"/>
            <a:ext cx="6261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name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20560" y="762120"/>
            <a:ext cx="8277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se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protectio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4600" y="685800"/>
            <a:ext cx="8122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ree of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ountries in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hich polar bear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sually liv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09480" y="5335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-40°F, 0°F, or 40°F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Polar bears need to be in an environment at this temperatur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00:32Z</dcterms:created>
  <dc:creator>Philip Bigler</dc:creator>
  <dc:description/>
  <dc:language>en-US</dc:language>
  <cp:lastModifiedBy>Vernice Mulcahy</cp:lastModifiedBy>
  <dcterms:modified xsi:type="dcterms:W3CDTF">2009-12-08T01:17:06Z</dcterms:modified>
  <cp:revision>28</cp:revision>
  <dc:subject/>
  <dc:title>Slide 1</dc:title>
</cp:coreProperties>
</file>